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302-FCFE-4CEB-ADDC-7035CEA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CD7-B9A6-4809-B7DF-841A0F9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191-B05A-4464-A430-BF09305D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A7A-B59C-487E-9947-9779554E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280-D932-4872-B914-399CE81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AF1-7B2E-4554-A26A-7FA09F1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7FF-C357-41BE-9D3C-BB0B1C6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12E-67E5-4EEE-9E36-994BBAB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89C-D791-478F-BC41-D0325BB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A77-3CA9-4BE3-A40C-8B81B53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C4D-C29A-412E-8577-AAC2688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240-FFE5-4581-BD28-A1635C3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323-6A19-4113-8515-4E1505A16D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4114800" y="5562720"/>
            <a:ext cx="2362320" cy="1143000"/>
          </a:xfrm>
          <a:custGeom>
            <a:avLst/>
            <a:gdLst>
              <a:gd name="textAreaLeft" fmla="*/ 142560 w 2362320"/>
              <a:gd name="textAreaRight" fmla="*/ 2219760 w 236232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6172200" y="5029200"/>
            <a:ext cx="2362320" cy="1143000"/>
          </a:xfrm>
          <a:custGeom>
            <a:avLst/>
            <a:gdLst>
              <a:gd name="textAreaLeft" fmla="*/ 142560 w 2362320"/>
              <a:gd name="textAreaRight" fmla="*/ 2219760 w 236232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terials and 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a list of everything needed to do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specif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f needed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0 ml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A batte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Cj03970480000[1]"/>
          <p:cNvPicPr/>
          <p:nvPr/>
        </p:nvPicPr>
        <p:blipFill>
          <a:blip r:embed="rId1"/>
          <a:stretch/>
        </p:blipFill>
        <p:spPr>
          <a:xfrm>
            <a:off x="609480" y="2286000"/>
            <a:ext cx="1670040" cy="166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73915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material girl cut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33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16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1522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37920" y="304920"/>
            <a:ext cx="6705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s to do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ed list format, not a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hrases, not senten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 Drop ball from 1 m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:  Next, take the ball, hold it at a height of 1 meter and drop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tep per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286000" y="0"/>
            <a:ext cx="4608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Mj02347000000[1]"/>
          <p:cNvPicPr/>
          <p:nvPr/>
        </p:nvPicPr>
        <p:blipFill>
          <a:blip r:embed="rId1"/>
          <a:stretch/>
        </p:blipFill>
        <p:spPr>
          <a:xfrm>
            <a:off x="533520" y="762120"/>
            <a:ext cx="123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95120" y="304920"/>
            <a:ext cx="57913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a ver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  Place the …., Snap a 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p lines between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multiple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o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Gather material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Record d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819520" y="0"/>
            <a:ext cx="4608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50292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257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ary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3 most important things to remember when writing procedure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2:06:40Z</dcterms:created>
  <dc:creator>Jean Kavanagh</dc:creator>
  <dc:description/>
  <dc:language>en-US</dc:language>
  <cp:lastModifiedBy>Jean Kavanagh</cp:lastModifiedBy>
  <dcterms:modified xsi:type="dcterms:W3CDTF">2009-09-25T14:06:26Z</dcterms:modified>
  <cp:revision>43</cp:revision>
  <dc:subject/>
  <dc:title>Materials and Procedures</dc:title>
</cp:coreProperties>
</file>